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0A75-611A-44B2-94AA-25AA3908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F96C-DCFC-49C1-89F3-D5E72405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3338-27F6-4C8A-AFD5-178D82DC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D6FE-C1AE-4142-AA8A-3340B3F8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55DD-B67D-40D1-BE6F-5831B83B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9BEA-A4A6-4C6F-9BA4-13A404FB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353B-8A5A-4B89-99FE-3C843B9E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74A1-2B22-4A15-8126-1B2BC9C8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7AC9-41F9-4EE2-B645-58F8E55A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48F3-9D37-4A34-8751-C4FDC273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AC0F-D98F-4DB0-B15A-828E06B7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349C-4581-4F30-B19B-F42DB5A5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66C3-7A65-428F-8431-73C1070FA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porting Information Produc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screen User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Word: QUIRTH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-Screen Vs Printed Doc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ed documentation, sequential in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of contents &amp;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screen documentation, use of hyperlinked text so doesn’t need to be sequ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r Guides &amp; Instruction Manual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ovided free on CD or DVD, with eg. hardware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urpose is to inform &amp; instruct re, characteristics, capabilities &amp; functions of h/w or s/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opics include: how to start, how to perform typical functions,eg. create new file, save, etc. &amp; print, exit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mats include PDF &amp; hyper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Start Gu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d with device for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ime or inexperienced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, simple instructions, eg. new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in brief text &amp; screen shots, animation or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house user document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 employees or clients to use an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, in-house protocols, eg. access, security, file-naming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guides for customised information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ither PDF or hypertext so can be readily accessed on screens in 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 Me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ovided by manufacturer with h/w &amp; s/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ntain information re, system requirements, configuration settings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ntain latest news about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ers read these when installing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mat, generally text files, or hypter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ep-by-step for using features &amp; functions of s/w program or h/w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mat, text &amp; graphics, PDF or hypertext or video and sound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n be downloaded from manufacturer’s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ownloaded from third party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archable information about using the features &amp; functions of a s/w or h/w product; tutorials for using features of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ntent-sensitive help, where help responds to current content a s/w user is accessing &amp; offers hints or assistance, eg. starting to type a letter; use of autocorrect; autocomplete macr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opics inclu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AQ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nowledgebase or database of general information topics about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roublesho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Upd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ugs &amp; p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echni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e of blogs &amp; community based web support when information from manufacturer is inadequate or share knowledge &amp;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8T23:24:14Z</dcterms:created>
  <dc:creator>Kelvin Baird</dc:creator>
  <dc:description/>
  <dc:language>en-US</dc:language>
  <cp:lastModifiedBy>Kelvin Baird</cp:lastModifiedBy>
  <dcterms:modified xsi:type="dcterms:W3CDTF">2007-07-09T00:39:56Z</dcterms:modified>
  <cp:revision>3</cp:revision>
  <dc:subject/>
  <dc:title>Supporting Information Products  </dc:title>
</cp:coreProperties>
</file>